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F67-136F-4C16-9883-C64FA63A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DD5-FBF8-4052-A192-C32F3F21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D0C-59B2-4B96-A22A-0ECDF7D6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78E-39BD-465B-AD29-845C574E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FF8C-955B-4088-A94B-9BE8F128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75D2-29D0-4F78-B07B-70425EC4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D6B9-81D3-44AC-9AC9-3261E86F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06B3-BFAD-4085-A1D6-A9942F9F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C60-3CB3-4C97-8706-E92B0C12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B6C0-13B9-429A-8F5A-6FB54DA6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8A62-D92A-43E6-86B9-620B7B1A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471-D68B-4328-A336-DCC31F00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A7AC-9D89-46E1-9C14-D8ACDC06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6547-2EF0-40F7-80CA-FE75EA5A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928A-9439-4A5A-9B88-D33D3160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298D-48C4-4E46-88A0-82D03C2A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59CB-D802-43C2-9351-97F2B8C3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179-7661-458A-BA66-A3DB4903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2BA-0392-4E30-95E6-16B5BB1F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01A-B29F-4C23-BC8E-402E46BA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2D3-58B0-4DB2-AEDF-F2904D4B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CB4-0B6E-4387-8B3E-FFFA4B9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267-2CF3-41FF-850C-FEBC9D8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28D-B564-4520-B5BC-0554965D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D96F-45BC-4F4D-BF17-BC1C73ADA8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F648-00F3-4394-8F5F-4BA608070B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pter 9 Review/Test Outli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Tahoma"/>
              </a:rPr>
              <a:t>Part 1: Multiple Choice  - Definitions, Terms and Dat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Authoritarian government, civil service, communist, democracy, dictator, dictatorship, emperors, hereditary government, laws, Mao Zedong, one-party state, Politburo, representative democracy, 1911, 1949, 1966, 221 B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Tahoma"/>
              </a:rPr>
              <a:t>Part 2:  Matching - Snapshots China (Page 133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Match the information with the terms from the snapshot of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Tahoma"/>
              </a:rPr>
              <a:t>Part 3:  Functions of Government – List the five (5) main functions of Government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represent peoples interests and help make their lives bette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provide services such as health care, child care programs and policing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create and enforce law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communicate with governments around the world; 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look after national defe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Part 4:  </a:t>
            </a:r>
            <a:r>
              <a:rPr b="1" lang="en-CA" sz="1800" spc="-1" strike="noStrike" u="sng">
                <a:solidFill>
                  <a:srgbClr val="ffffff"/>
                </a:solidFill>
                <a:uFillTx/>
                <a:latin typeface="Tahoma"/>
              </a:rPr>
              <a:t>Labelling - Fill in the diagram of the Canadian Government</a:t>
            </a: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 (Page 13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bdoe</cp:lastModifiedBy>
  <dcterms:modified xsi:type="dcterms:W3CDTF">2007-04-09T16:28:3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